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BE79-5F55-462A-B01A-D9FC2030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044C-66F9-462F-9EE3-BA5B40792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14F16-5747-4C8A-8D1C-C17C92E4A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264B-C685-4AF5-8159-6CC8BA5B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CBE5-4B0F-4243-87E3-4DBF53CF6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BA5-4114-406B-B90E-13C49AA3B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474D-A617-495C-8FED-F68C2364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0276-41B7-442E-85F6-3C7FD93A1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8C06-BCF8-4B8F-B1DD-B5B2B8537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E778-4A90-4A41-A4D8-DA4000A4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519D-33FF-41E7-A74A-83F9B4E74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CFF0-58BC-4791-A809-DF129E8A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78971-1FC5-4BB8-836C-AADC808CBA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55:46Z</dcterms:created>
  <dc:creator>INVES-S6600A</dc:creator>
  <dc:description/>
  <dc:language>en-US</dc:language>
  <cp:lastModifiedBy>INVES-S6600A</cp:lastModifiedBy>
  <dcterms:modified xsi:type="dcterms:W3CDTF">2010-11-23T13:56:00Z</dcterms:modified>
  <cp:revision>1</cp:revision>
  <dc:subject/>
  <dc:title>Diapositiva 1</dc:title>
</cp:coreProperties>
</file>